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D3E-329C-4872-91EB-24989FBE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07D-340F-4FE5-8BB6-63336D60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3D6-0C38-4BBF-A8F7-E1C43590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81B-D3B9-4A07-864D-A1E7DCA9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DE8-761F-4554-9572-D267AF49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2D9F-B482-4977-8D31-D914C8EE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A94B-0F0C-4E00-B266-3ABAC99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D1F4-13CA-4EF3-A99E-1A84561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364E-2AE4-4002-95B3-2570600D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3A48-EA9B-4DB0-BFA0-DBABDDB0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8FBD-2330-4C42-8E0C-A8CF2F2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D7B-C7E8-4BDC-9B94-6A24C56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DCD1-EAE0-4078-8E2C-B766BAE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5BCE-DEDA-430C-B02C-4C58AC91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BFF3-3A6B-41F5-9292-F25F5C4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9F1C-B808-4F39-9A26-47BA0932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9E7C-35EC-41D0-97CD-107F1CCE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980F-9049-4968-BFF2-DFE2147B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91EE-B936-409F-883C-182BE78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7CA4-8B9F-42E5-AD39-0302020B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4BA90-15B0-41E4-AAF8-295AF26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9819-9BDE-4306-90BD-7F06AFEC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EC4-C9EF-4977-8B7F-5CAC01BD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6779-3722-4A7B-8D7D-0960C31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6FCA-AF25-4FD8-AF61-A8F2BD30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721A-1AB6-4AF7-A20E-9894FB07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CCFE-70F7-46B3-9416-08A8D97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38E4-4E71-4FE1-893F-E98AEFFB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5DE5-3C59-4551-86C2-3FA38EE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8685-2F91-4669-BABB-B43EA946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F5EA-D592-4656-BAAB-534C01D0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B537-5650-497F-862F-5B39AF6C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5243-D35E-4E93-B428-944D141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72B-D8AF-42B3-AFA6-F9E6D759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EFFD-D385-4CA4-A560-D187197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36FE-F184-42D3-8544-63948FA4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FEE3-6A46-4E47-827F-BB29BAB5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C068-B490-4E59-B603-17B9B67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AF82C-976B-4310-B04F-650895EB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0E6B-3B5F-43B8-8DFA-A30209D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A534-9B5A-467C-B22F-7FF07B8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0A25-9843-4BE5-AB51-47E2709E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7049-BA80-4108-9BC5-B453752F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2BFD-E7C1-453A-A04D-8637D5F7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4B6-B554-48D5-8522-69D1A17E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EEBD-D73F-48C4-9028-8303C63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4863-0509-4F57-A9D6-7F6C78EF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DDDBD-3E06-442A-B94F-A4A29ACE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F938-4AC7-4FAB-A643-C4193ED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6BEA-B5B7-49C1-A7E6-EE3E4C04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83D6-84DC-45C8-B35C-5ACBCFE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DDBA-0095-414B-9EA3-DAEEEF9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6E88-BA07-430C-8729-FDCC726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6FA8-08D3-494C-B625-C6D113E4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5E366-0E6C-473D-8C09-66018799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5E5-839D-4068-958D-4A205E90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F5F9-B576-4123-AA0E-3BA9C467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E25B0-FE37-498C-BF94-AF0FD53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0D29-FC95-4435-9337-405ED9C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F2F1-010C-4B32-BB13-DA083D0B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B60C-B57A-488C-BCCB-CB42345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2E5D-A80F-4827-B522-2B53D4C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2E66D-412B-488D-A195-3826EF9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F6E3-B571-4C54-937F-A2741FB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2B60-A27A-401E-BA36-5221BAC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E7897-CE13-4978-A492-5ABFB4B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30F-DF71-4E0F-B3C4-6F2DE444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F3C20-8D6F-4D70-8CEF-288FEB39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FDEA-1B2E-4BA4-BEBC-439B03BB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CC93B-4804-463D-B5F1-CF2AEDC9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BD818-D3D5-4958-A9F7-D3445BEA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6DB4-C002-4C0C-842C-F6F7A34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518A-7281-49C7-992B-C9BAF09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9BE67-2B57-4075-ABB0-59CE2691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7149F-4601-486E-9AFE-68182976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DD4E0-2E56-49AD-A5E6-2FAB178F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5480-0CF2-4F7D-A851-A92A6947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5B6-208D-4682-BFA3-3018593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F5ED-5B54-4937-AF88-5D47038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82E0-F7E7-420E-85D2-E9FDC6FD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29923-EE98-4EF3-A427-7CA34BE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A0577-4F84-4248-BB80-8C8F6E98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32B83-D122-4D11-A267-8696B850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126-326E-4B51-8EC5-FC5E3DB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9289-A027-465D-90EE-4ACDB669C85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DCC-8204-4BE3-A8F7-7AF01C102F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5295-FCDF-421A-B6CB-EB2442888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E41-3758-4C25-809F-5CB5AC09B93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9C89-B75F-4D29-BEC1-C420C02BD67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8B75-6FD9-45DF-A91D-5C53F38E88B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11D2-C4CB-4A20-B623-D9F9B0BBD5D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rregular Pear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1519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tholic Reform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motional, exuberant… sens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rnini: The Ecstacy of St. Theres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http://www.eyeconart.net/history/Baroque/BerniniEcstacy2.jpg"/>
          <p:cNvPicPr/>
          <p:nvPr/>
        </p:nvPicPr>
        <p:blipFill>
          <a:blip r:embed="rId2"/>
          <a:stretch/>
        </p:blipFill>
        <p:spPr>
          <a:xfrm>
            <a:off x="2743200" y="3079800"/>
            <a:ext cx="39625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28040" cy="12621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bc.edu/bc_org/avp/cas/artmuseum/exhibitions/archive/saints.jpg"/>
          <p:cNvPicPr/>
          <p:nvPr/>
        </p:nvPicPr>
        <p:blipFill>
          <a:blip r:embed="rId3"/>
          <a:stretch/>
        </p:blipFill>
        <p:spPr>
          <a:xfrm>
            <a:off x="1828800" y="2209680"/>
            <a:ext cx="59436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mbrandt – Blinding of Samps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2" descr="http://www.shafe.co.uk/crystal/images/lshafe/Rembrandt_The_Blinding_of_Samson_1636.jpg"/>
          <p:cNvPicPr/>
          <p:nvPr/>
        </p:nvPicPr>
        <p:blipFill>
          <a:blip r:embed="rId2"/>
          <a:stretch/>
        </p:blipFill>
        <p:spPr>
          <a:xfrm>
            <a:off x="3251160" y="24382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6840" y="1774800"/>
            <a:ext cx="44197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idence of Prince-Bisho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urzburg, Germa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smarthistory.org/assets/images/images/Tiepolo-Residenz.jpg"/>
          <p:cNvPicPr/>
          <p:nvPr/>
        </p:nvPicPr>
        <p:blipFill>
          <a:blip r:embed="rId2"/>
          <a:stretch/>
        </p:blipFill>
        <p:spPr>
          <a:xfrm>
            <a:off x="4876920" y="1438200"/>
            <a:ext cx="4267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http://cache.virtualtourist.com/3911645-The_grounds_of_Schonbrunn_Palace-Vienna.jpg"/>
          <p:cNvPicPr/>
          <p:nvPr/>
        </p:nvPicPr>
        <p:blipFill>
          <a:blip r:embed="rId3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http://www.europeancastlestours.com/tours/bavaria/gallery/Nymphenburg_Aerial.jpg"/>
          <p:cNvPicPr/>
          <p:nvPr/>
        </p:nvPicPr>
        <p:blipFill>
          <a:blip r:embed="rId3"/>
          <a:stretch/>
        </p:blipFill>
        <p:spPr>
          <a:xfrm>
            <a:off x="1628640" y="1276200"/>
            <a:ext cx="751536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onsored by nobles/kin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om, board, wages in return for masterful works that drew attention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sicians were high paid celebrit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ules, theory are consolida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andeur, ceremonial, awe-inspi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ronations, fireworks, garden part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ch (Icon of Baroque, Germa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ndel (Stately music, Bri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valdi (Italia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ully (Ballets for Sun King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4:59:43Z</dcterms:created>
  <dc:creator>Kuenzi</dc:creator>
  <dc:description/>
  <dc:language>en-US</dc:language>
  <cp:lastModifiedBy>Kuenzi</cp:lastModifiedBy>
  <dcterms:modified xsi:type="dcterms:W3CDTF">2010-11-22T05:24:26Z</dcterms:modified>
  <cp:revision>4</cp:revision>
  <dc:subject/>
  <dc:title>Baroque</dc:title>
</cp:coreProperties>
</file>